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A62-E754-4E71-BFF4-28FF10A1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437-C68A-44DA-96D5-43B0BBE5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5DB-9AB9-4CD8-BD72-EFCBFE9D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C63-C59B-4482-9EB1-7ABD2BD3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2495-67A8-47CA-B374-317852FB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9D8E-5E0E-4B66-A7DC-F808FF4A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7839-5597-4AC5-AED2-2A5BCF09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FFC4-4488-4421-9E8A-95E775C2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4F0D-74F2-46A1-BED9-3C2CD4FA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9084-68CA-4671-A83D-FDA610FF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B016-BB2E-481F-AB80-A66CE3D4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A72-AF94-4BE2-8135-FA577389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5193-0D82-49DD-8760-22760459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173C-ED6A-4A6E-8C6D-F93D113E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EB53-01FA-46D9-BA89-F1EE782D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C4F4-F8A5-4824-BF9D-9D10DF9E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462D-5B6A-4519-9D48-76FA71E7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B67-E6ED-4106-9086-2FFC2FE5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FB8-0812-4896-81B6-E406887D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EFB-EE73-4A43-B1D1-0527157D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8B90-5145-42CB-AD06-01D077FC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AF0-B7E6-4166-AB87-C987C2B9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7CC3-98E5-42AA-9308-4368B954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B9E-697F-4E94-A55C-67DB73A8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8FE1-DCFB-4A69-99F1-F5DD28C564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DF8B-7579-47B0-828B-B03DA6BD8DCA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onceptuální rámec výzkumu -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úko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64-T"/>
          <p:cNvPicPr/>
          <p:nvPr/>
        </p:nvPicPr>
        <p:blipFill>
          <a:blip r:embed="rId1"/>
          <a:stretch/>
        </p:blipFill>
        <p:spPr>
          <a:xfrm>
            <a:off x="2627280" y="260280"/>
            <a:ext cx="3406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Techniky sběru a analýzy d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teorii/věd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prax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Použité zdroj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ázev disertační prá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doktor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školit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Oblast výzku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Literární rešerš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Výzkumný problém a hlavní cíl výzkum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ýzkumné otáz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Dílčí výzkumné cí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Hypotéz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olba met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20:27:22Z</dcterms:created>
  <dc:creator>Pavelková Drahomíra</dc:creator>
  <dc:description/>
  <dc:language>en-US</dc:language>
  <cp:lastModifiedBy>Drahomíra Pavelková</cp:lastModifiedBy>
  <dcterms:modified xsi:type="dcterms:W3CDTF">2019-09-11T19:13:49Z</dcterms:modified>
  <cp:revision>2</cp:revision>
  <dc:subject/>
  <dc:title>      Konceptuální rámec výzkumu - úk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